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EB5-92BB-4161-8AC4-C2ACD3D6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EB6-AC6F-4F18-90C0-EB8190D4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0ED-B286-48C8-91EF-ED66E367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92F-C532-48D8-ABB0-865F5484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9DF-2536-4900-A395-4680EFF0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BE1-BC10-46F2-8C71-A1CEAE07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313-CC35-4573-BD36-A9B82830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763-31C5-43A0-B730-74F56700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DEA-1F54-4B8A-B0F0-06A355A7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43C-AAFA-4D32-AD4F-35EFEA01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E78-CDBE-4B76-80B3-DE2B14D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6C4-CD65-4AFE-9884-6D41935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D087-5CDE-4027-B36F-D293CEF91C91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s Canchas de Pelo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a ubicacion y su arquitectu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Por Megan Herrera, Kevin Valdes y Michael Stone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?Que es el juego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5320" y="1447920"/>
            <a:ext cx="434340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l juego de los Mayas era una combinacíon de basketbol, voleibol, y futbol. 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os equipos jugaban contra uno al otro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0" name="Picture 6" descr="Unknown"/>
          <p:cNvPicPr/>
          <p:nvPr/>
        </p:nvPicPr>
        <p:blipFill>
          <a:blip r:embed="rId1"/>
          <a:stretch/>
        </p:blipFill>
        <p:spPr>
          <a:xfrm>
            <a:off x="762120" y="1981080"/>
            <a:ext cx="308772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Originalmente el juego era de solamente una pelota cedando en el juego, pero en tiempo pusieron dos añillos de piedra en cada lado de la cancha. 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Picture 6" descr="Unknown-1"/>
          <p:cNvPicPr/>
          <p:nvPr/>
        </p:nvPicPr>
        <p:blipFill>
          <a:blip r:embed="rId1"/>
          <a:stretch/>
        </p:blipFill>
        <p:spPr>
          <a:xfrm>
            <a:off x="4800600" y="1981080"/>
            <a:ext cx="3809880" cy="3124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Juego Hoy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8840" y="990360"/>
            <a:ext cx="380988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on eso nuevo atributo a la cancha el juego se cambio. Ahora el juego es de pegar la pelota entre el anillo para un punto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9" name="Picture 6" descr="Unknown-2"/>
          <p:cNvPicPr/>
          <p:nvPr/>
        </p:nvPicPr>
        <p:blipFill>
          <a:blip r:embed="rId1"/>
          <a:stretch/>
        </p:blipFill>
        <p:spPr>
          <a:xfrm>
            <a:off x="380880" y="2057400"/>
            <a:ext cx="4540320" cy="3019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Pelo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4724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n el juego tenia una pelota de hule. El tamaño de la pelota  era diferente en todo de Mesoamerica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4" name="Picture 6" descr="Unknown"/>
          <p:cNvPicPr/>
          <p:nvPr/>
        </p:nvPicPr>
        <p:blipFill>
          <a:blip r:embed="rId1"/>
          <a:stretch/>
        </p:blipFill>
        <p:spPr>
          <a:xfrm>
            <a:off x="4800600" y="2438280"/>
            <a:ext cx="3809880" cy="25592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34340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Equip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8840" y="533160"/>
            <a:ext cx="3809880" cy="5562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urante el juego estaban vestidosa en goras bonitas, tenían ropa cubriendo su pecho, cuello, cadera y codos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on todo eso lo protegio los jugadores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9" name="Picture 6" descr="Unknown-1"/>
          <p:cNvPicPr/>
          <p:nvPr/>
        </p:nvPicPr>
        <p:blipFill>
          <a:blip r:embed="rId1"/>
          <a:stretch/>
        </p:blipFill>
        <p:spPr>
          <a:xfrm>
            <a:off x="533520" y="1600200"/>
            <a:ext cx="3809880" cy="38606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904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Verdana"/>
              </a:rPr>
              <a:t>Fin</a:t>
            </a:r>
            <a:endParaRPr b="1" lang="en-US" sz="66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3" name="Picture 2" descr="http://www.mexconnect.com/assets/0000/2988/maya19_medium.jpg?1234372345"/>
          <p:cNvPicPr/>
          <p:nvPr/>
        </p:nvPicPr>
        <p:blipFill>
          <a:blip r:embed="rId1"/>
          <a:stretch/>
        </p:blipFill>
        <p:spPr>
          <a:xfrm>
            <a:off x="1752480" y="2819520"/>
            <a:ext cx="52578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?Por Que jugaban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l juego de pelota era un oportunidad por los Mayas competir juntas o contra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reyo ser un continuacion de religioso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ambien jugaban para un ritual difici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49" name="Picture 9" descr="aztec-calendar-mexican-history"/>
          <p:cNvPicPr/>
          <p:nvPr/>
        </p:nvPicPr>
        <p:blipFill>
          <a:blip r:embed="rId1"/>
          <a:stretch/>
        </p:blipFill>
        <p:spPr>
          <a:xfrm>
            <a:off x="4648320" y="2606760"/>
            <a:ext cx="3809880" cy="28620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3808440" cy="533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Las canchas estaban construidos como un ritual asi que solo podemos asumir que los juegos eran importante y no solo un juego para divertirse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53" name="Picture 6" descr="http://0.tqn.com/d/ancienthistory/1/0/0/n/2/MayaBallCourt.jpg"/>
          <p:cNvPicPr/>
          <p:nvPr/>
        </p:nvPicPr>
        <p:blipFill>
          <a:blip r:embed="rId1"/>
          <a:stretch/>
        </p:blipFill>
        <p:spPr>
          <a:xfrm>
            <a:off x="4648320" y="12952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Resultad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219320"/>
            <a:ext cx="7772400" cy="3124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l resultado tuvo un efecto en todos los vidas de la gente de May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Ganadors era heroes y perdadors era sacrificio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Perdedors era mato porque los Mayas creia que todos los dias era una pelear contra buen y malo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8" name="Picture 6" descr="http://upload.wikimedia.org/wikipedia/commons/thumb/5/53/Codex_Magliabechiano_(141_cropped).jpg/300px-Codex_Magliabechiano_(141_cropped).jpg"/>
          <p:cNvPicPr/>
          <p:nvPr/>
        </p:nvPicPr>
        <p:blipFill>
          <a:blip r:embed="rId1"/>
          <a:stretch/>
        </p:blipFill>
        <p:spPr>
          <a:xfrm>
            <a:off x="6400800" y="4267080"/>
            <a:ext cx="228600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Verdana"/>
              </a:rPr>
              <a:t>Arquitectura May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89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Pirámid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- habían edificios o iglesias encim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- el juego de pelota era acerca de  las pirámid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3" name="Picture 5" descr="mayan pyramid 1.jpg"/>
          <p:cNvPicPr/>
          <p:nvPr/>
        </p:nvPicPr>
        <p:blipFill>
          <a:blip r:embed="rId1"/>
          <a:stretch/>
        </p:blipFill>
        <p:spPr>
          <a:xfrm>
            <a:off x="3657600" y="3733920"/>
            <a:ext cx="353376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Juego de Pelota Canch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ira que una “I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ugar mas importante en toda la cuidad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Rodeado de dos paredes de cemento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8" name="Picture 6" descr="mayan ball court.jpg"/>
          <p:cNvPicPr/>
          <p:nvPr/>
        </p:nvPicPr>
        <p:blipFill>
          <a:blip r:embed="rId1"/>
          <a:stretch/>
        </p:blipFill>
        <p:spPr>
          <a:xfrm>
            <a:off x="4932360" y="2359080"/>
            <a:ext cx="3711600" cy="5535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Juego de pelo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Jugaron con dos persona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Necesitaron hacer la pelota en la aro con sus cuerpo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a aro era muy 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alto de la tier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3" name="Picture 6" descr="ball game hoop.jpg"/>
          <p:cNvPicPr/>
          <p:nvPr/>
        </p:nvPicPr>
        <p:blipFill>
          <a:blip r:embed="rId1"/>
          <a:stretch/>
        </p:blipFill>
        <p:spPr>
          <a:xfrm>
            <a:off x="6858000" y="3962520"/>
            <a:ext cx="1542960" cy="24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" name="Picture 7" descr="mayan players.jpg"/>
          <p:cNvPicPr/>
          <p:nvPr/>
        </p:nvPicPr>
        <p:blipFill>
          <a:blip r:embed="rId2"/>
          <a:stretch/>
        </p:blipFill>
        <p:spPr>
          <a:xfrm>
            <a:off x="4870440" y="1292400"/>
            <a:ext cx="3828960" cy="221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380880"/>
            <a:ext cx="35053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ue mas duro a hacer la pelota en la aro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pelota de goma pesado aproximo nueve libra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8" name="Picture 5" descr="ball game ball.png"/>
          <p:cNvPicPr/>
          <p:nvPr/>
        </p:nvPicPr>
        <p:blipFill>
          <a:blip r:embed="rId1"/>
          <a:stretch/>
        </p:blipFill>
        <p:spPr>
          <a:xfrm>
            <a:off x="4443480" y="219240"/>
            <a:ext cx="3352680" cy="200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all game hoop height.jpg"/>
          <p:cNvPicPr/>
          <p:nvPr/>
        </p:nvPicPr>
        <p:blipFill>
          <a:blip r:embed="rId2"/>
          <a:stretch/>
        </p:blipFill>
        <p:spPr>
          <a:xfrm>
            <a:off x="2971800" y="4648320"/>
            <a:ext cx="3048120" cy="20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8" descr="mayan player.png"/>
          <p:cNvPicPr/>
          <p:nvPr/>
        </p:nvPicPr>
        <p:blipFill>
          <a:blip r:embed="rId3"/>
          <a:stretch/>
        </p:blipFill>
        <p:spPr>
          <a:xfrm>
            <a:off x="6781680" y="2438280"/>
            <a:ext cx="1857600" cy="2457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520" y="1143000"/>
            <a:ext cx="403884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Utilizado la cancha a estuidar los estrella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creían que pista los cielos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Verdana"/>
              </a:rPr>
              <a:t>La Arquitectura de los mayas era muy avanzado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4" name="Picture 5" descr="pyramid snake.png"/>
          <p:cNvPicPr/>
          <p:nvPr/>
        </p:nvPicPr>
        <p:blipFill>
          <a:blip r:embed="rId1"/>
          <a:stretch/>
        </p:blipFill>
        <p:spPr>
          <a:xfrm>
            <a:off x="5114880" y="701640"/>
            <a:ext cx="3340080" cy="447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ayan stars.jpg"/>
          <p:cNvPicPr/>
          <p:nvPr/>
        </p:nvPicPr>
        <p:blipFill>
          <a:blip r:embed="rId2"/>
          <a:stretch/>
        </p:blipFill>
        <p:spPr>
          <a:xfrm>
            <a:off x="5821200" y="3895560"/>
            <a:ext cx="2773440" cy="251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9:16:28Z</dcterms:created>
  <dc:creator>Los Alamitos</dc:creator>
  <dc:description/>
  <dc:language>en-US</dc:language>
  <cp:lastModifiedBy>AJ Herrera</cp:lastModifiedBy>
  <dcterms:modified xsi:type="dcterms:W3CDTF">2012-01-22T21:08:26Z</dcterms:modified>
  <cp:revision>10</cp:revision>
  <dc:subject/>
  <dc:title>Las Canchas de Pelota</dc:title>
</cp:coreProperties>
</file>